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97152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3/12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d34"/>
                </a:solidFill>
                <a:latin typeface="Georgia"/>
              </a:rPr>
              <a:t>Click to move the slide</a:t>
            </a: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3080" y="4417920"/>
            <a:ext cx="560052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83080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971520" y="883080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FB214-D557-4EB4-9ACE-CF8B26DC48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3971880" y="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3/12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102FC-5BCC-4538-B2AF-A6D07E544C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1181160" y="698400"/>
            <a:ext cx="46497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18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5F351-64D2-40C1-B91B-5378F76F0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6371F-4118-4A48-A7D6-A4887918A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27CD0-3153-4CF3-8DC6-F87C65BB2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20E14-0DE6-412B-A806-FC1800F07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E9702-CF84-4055-9754-AB4B93369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C813E-0134-48B1-9AB1-C97014AFC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68A6C-2287-4155-AC55-A9A9D08FC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6E1A7-5E4B-430B-B426-131BB5C27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04462-90C1-4878-8FFF-3409B7BE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7" name="Notes Placeholder 5"/>
          <p:cNvSpPr/>
          <p:nvPr/>
        </p:nvSpPr>
        <p:spPr>
          <a:xfrm>
            <a:off x="934920" y="4416480"/>
            <a:ext cx="514044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C16D0-79E5-404D-B5BE-9F9C49388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3080" y="4417920"/>
            <a:ext cx="56005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3971880" y="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3/12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88EDF-B7B8-4AD9-9667-B07CEA28B5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3080" y="4417920"/>
            <a:ext cx="56005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18FC73-FB36-434F-933D-E2745023E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1A25C-A541-4003-AB91-F4482011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3080" y="4417920"/>
            <a:ext cx="56005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3080" y="4417920"/>
            <a:ext cx="56005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3971880" y="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3/12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7792D-D5B8-43E1-867B-B7E7616A0C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7CDDC-3BFC-4E96-89F1-A3A062656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3080" y="4417920"/>
            <a:ext cx="56005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080" y="4417920"/>
            <a:ext cx="56005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84198-667B-480C-9795-E94FEF13D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1880" y="8831160"/>
            <a:ext cx="30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67CF6-90AE-4575-B08B-6663D7E8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3080" y="4417920"/>
            <a:ext cx="56005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C5D3-6B4B-4C81-A8D4-378507C68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66DF-9B2B-446E-BC0D-EAAE58BD5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8503-A2A2-49C7-87AB-EDDA6BF71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94F8-8047-45BE-AADE-8E34CD55C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7560" y="174600"/>
            <a:ext cx="7296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DD86-7005-4C86-BDB5-78B2D74CB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31DF-276B-416E-9FF8-61EC8BF33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AA46-CDE5-4E3C-92F7-14EC8B892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E3D9-48C4-495F-93BB-F7B00560F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7560" y="174600"/>
            <a:ext cx="7296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E6E9-A4BD-4B7C-A416-6041D1854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9B55-ECB7-4A6E-BD43-4D5A4E1BF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F86A-4891-4997-80F7-5BF5D55D5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3A08-5228-484F-BA2D-0D2EE3DB9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d34"/>
                </a:solidFill>
                <a:latin typeface="Georgia"/>
              </a:rPr>
              <a:t>Click to edit the title text format</a:t>
            </a: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B2F72-6B45-42A1-ACEC-BF0E19FBBD1E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123840" y="6524640"/>
            <a:ext cx="548640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5b3d"/>
                </a:solidFill>
                <a:latin typeface="Georgia"/>
              </a:rPr>
              <a:t>Dubai GNSS Applications Workshop – 16-20 Januar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tretch/>
        </p:blipFill>
        <p:spPr>
          <a:xfrm>
            <a:off x="22320" y="55440"/>
            <a:ext cx="977760" cy="947880"/>
          </a:xfrm>
          <a:prstGeom prst="rect">
            <a:avLst/>
          </a:prstGeom>
          <a:ln w="0">
            <a:noFill/>
          </a:ln>
        </p:spPr>
      </p:pic>
      <p:sp>
        <p:nvSpPr>
          <p:cNvPr id="5" name="Line 14"/>
          <p:cNvSpPr/>
          <p:nvPr/>
        </p:nvSpPr>
        <p:spPr>
          <a:xfrm flipH="1">
            <a:off x="989280" y="-1800"/>
            <a:ext cx="6840" cy="114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 rot="10800000">
            <a:off x="0" y="990000"/>
            <a:ext cx="9144000" cy="75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d34"/>
                </a:solidFill>
                <a:latin typeface="Georgia"/>
              </a:rPr>
              <a:t>Click to edit the title text format</a:t>
            </a: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stb.tc.faa.gov/Full_WaasLPV.htm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auerbachjm@state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6248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655b3d"/>
                </a:solidFill>
                <a:latin typeface="Georgia"/>
              </a:rPr>
              <a:t>GPS Augmentations and Applications</a:t>
            </a:r>
            <a:endParaRPr b="1" i="1" lang="en-US" sz="3600" spc="-1" strike="noStrike">
              <a:solidFill>
                <a:srgbClr val="564d34"/>
              </a:solidFill>
              <a:latin typeface="Georgi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3" name="Line 5"/>
          <p:cNvSpPr/>
          <p:nvPr/>
        </p:nvSpPr>
        <p:spPr>
          <a:xfrm>
            <a:off x="1523880" y="2514600"/>
            <a:ext cx="647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371600" y="2666880"/>
            <a:ext cx="6400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shop on the Applications of Global Navigation Satellit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ubai, United Arab Emi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6-20 January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09480" y="5181480"/>
            <a:ext cx="79153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Jeffrey Auerb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NSS Policy Advi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ffice of Space and Advanced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.S. Department of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2840" y="205920"/>
            <a:ext cx="77025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U.S. GPS Augmentation Programs Designed for Aviation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pic>
        <p:nvPicPr>
          <p:cNvPr id="137" name="Picture 3" descr="WAAS_LAAS_phases of flight"/>
          <p:cNvPicPr/>
          <p:nvPr/>
        </p:nvPicPr>
        <p:blipFill>
          <a:blip r:embed="rId1"/>
          <a:srcRect l="2413" t="1110" r="2289" b="1483"/>
          <a:stretch/>
        </p:blipFill>
        <p:spPr>
          <a:xfrm>
            <a:off x="747720" y="1357200"/>
            <a:ext cx="7662960" cy="496728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C869B-5942-4FEF-B5D4-0F17D1B52005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334120" y="5791320"/>
            <a:ext cx="1523880" cy="30456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334120" y="6095880"/>
            <a:ext cx="1523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181480" y="5835600"/>
            <a:ext cx="19814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69837"/>
                </a:solidFill>
                <a:latin typeface="Arial Black"/>
              </a:rPr>
              <a:t>GB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1577880"/>
            <a:ext cx="29448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round Station/Processing Unit/Power Supply (one shelter on airport property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4 Reference Receivers/Antenna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HF Data Link Antenn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cifica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upports Category I approach with growth to Category II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ingle facility can provide service up to 23 mile radiu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3" name="Picture 6" descr="How_GBAS_works_0408_final"/>
          <p:cNvPicPr/>
          <p:nvPr/>
        </p:nvPicPr>
        <p:blipFill>
          <a:blip r:embed="rId1"/>
          <a:stretch/>
        </p:blipFill>
        <p:spPr>
          <a:xfrm>
            <a:off x="3200400" y="1600200"/>
            <a:ext cx="572616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Slide Number Placeholder 4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507A3-D05A-45D5-BBFE-215227C77735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Ground Based Augmentation System (GBAS)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Ground Based Augmentation System (GBAS)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79880" y="2666520"/>
            <a:ext cx="40118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Aviation Capabiliti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ecision approach for ILS Category - I, II, III approach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ultiple runway coverage at an airpor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D RNP procedures (can be supported by multiple navigation sources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inuous Descent Arrivals (CDA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avigation for closely spaced parallel runway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8" name="Picture 4" descr="LAAS_Architecture.bmp"/>
          <p:cNvPicPr/>
          <p:nvPr/>
        </p:nvPicPr>
        <p:blipFill>
          <a:blip r:embed="rId1"/>
          <a:stretch/>
        </p:blipFill>
        <p:spPr>
          <a:xfrm>
            <a:off x="336600" y="2590920"/>
            <a:ext cx="4540320" cy="3524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380880" y="15238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signed for aviation 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DA705-265E-4E31-BF6A-8774C5B0B60A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GBAS Category I Implementation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882800"/>
            <a:ext cx="807732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rational Implemen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BAS implementation at Newa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traight in procedures develop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irspace Simulations in progress for other scenarios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light Inspection 2010 / First Flight TB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inental Airlines taking delivery of GBAS capable 737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FI issues on L1 – FAA Spectrum investiga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OTAM to address non-availabil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BAS implementation Hous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emphis GBAS will be relocated to Houst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ouston as an additional airport to establish city pair for Continenta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30DB5-D71F-43DE-AD7A-8EA51E078A58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2720171430_d959627593"/>
          <p:cNvPicPr/>
          <p:nvPr/>
        </p:nvPicPr>
        <p:blipFill>
          <a:blip r:embed="rId1"/>
          <a:stretch/>
        </p:blipFill>
        <p:spPr>
          <a:xfrm>
            <a:off x="6172200" y="1143000"/>
            <a:ext cx="2430360" cy="171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GBAS Category II/III Acquisition Planning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rafting/updating required documents according to FAA Acquisition Management Sys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ingle Competitive Contract Award for Development and Production option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T I/II/III GBAS ground facilit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ow Rate Initial Production (LRIP) beginning around 2015 (IOC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0-12 installations per year, up to 90 installation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0 year life-cycle ~203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xt Mileston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vestment Analysis Readiness Decision – September 20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itial Investment Decision – March 20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nal Investment Decision – September 20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041F4-EB00-4022-B760-29E063F428F5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GBAS International Activities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national GBAS Working Group (IGWG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ast working group hosted by EUROCONTRO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une 3-6, 2010 in Brussels, Belgiu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rvice providers starting transition fr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search to implementation of GBA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ajor topics of interest/cooper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ordination of worldwide Ionospheric activit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ost Implementation activit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uture applications/CAT II/III CONOP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BAS in SESAR (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ngle European Sky ATM Resear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SAR budget includes substantial budgets for GBAS R&amp;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A supporting international ANSP requests for GBAS technical suppor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ustralia, Brazil, Germany, Spain, Chile, India, China, Colombi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Slide Number Placeholder 6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4E47A-F333-4493-AE36-45D9CF7EC498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85345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GBAS Usage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160" y="1218960"/>
            <a:ext cx="8202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Current airlines GBAS equipp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ontinental, Delta Airlines, Qantas, Air Berlin, TuiFly, Sonair, Air Vanuatu, Emir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ore than 15 countries have active GBAS progra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C30E0-17AB-41B0-A5AF-C5376B53E288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1600200" y="2720880"/>
            <a:ext cx="6019920" cy="3748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3352680" y="6157800"/>
            <a:ext cx="1182960" cy="217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Install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103640" y="6153120"/>
            <a:ext cx="1147680" cy="21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0" y="6154560"/>
            <a:ext cx="1090440" cy="21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S-CAT 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85345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Wide Area Augmentation System (WAAS)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80880" y="1523880"/>
            <a:ext cx="8305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tellite Based Augmentation System (SB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signed for aviation use, but available and used by many GPS users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calizer Performance with Vertical Guidance (LPV)-200 approach is comparable to ILS Category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WAAS - Earth, satellites, plane"/>
          <p:cNvPicPr/>
          <p:nvPr/>
        </p:nvPicPr>
        <p:blipFill>
          <a:blip r:embed="rId1"/>
          <a:stretch/>
        </p:blipFill>
        <p:spPr>
          <a:xfrm>
            <a:off x="1828800" y="3733920"/>
            <a:ext cx="5437080" cy="251460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8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E0ACD-C079-42AB-86F7-6364B5871CB8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C78E6-7DA3-4B1A-A7E9-69506FEA17CB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74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Wide Area Augmentation System (WAAS) Architecture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pic>
        <p:nvPicPr>
          <p:cNvPr id="174" name="Picture 3" descr="wrs"/>
          <p:cNvPicPr/>
          <p:nvPr/>
        </p:nvPicPr>
        <p:blipFill>
          <a:blip r:embed="rId1"/>
          <a:stretch/>
        </p:blipFill>
        <p:spPr>
          <a:xfrm>
            <a:off x="4730760" y="1638360"/>
            <a:ext cx="1265400" cy="1533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4792320" y="3560760"/>
            <a:ext cx="1302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 Refere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WMS"/>
          <p:cNvPicPr/>
          <p:nvPr/>
        </p:nvPicPr>
        <p:blipFill>
          <a:blip r:embed="rId2"/>
          <a:stretch/>
        </p:blipFill>
        <p:spPr>
          <a:xfrm>
            <a:off x="6237360" y="1736640"/>
            <a:ext cx="933480" cy="1555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ops"/>
          <p:cNvPicPr/>
          <p:nvPr/>
        </p:nvPicPr>
        <p:blipFill>
          <a:blip r:embed="rId3"/>
          <a:stretch/>
        </p:blipFill>
        <p:spPr>
          <a:xfrm>
            <a:off x="7151760" y="4562640"/>
            <a:ext cx="1447560" cy="108576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7"/>
          <p:cNvGrpSpPr/>
          <p:nvPr/>
        </p:nvGrpSpPr>
        <p:grpSpPr>
          <a:xfrm>
            <a:off x="7456320" y="1736640"/>
            <a:ext cx="1459080" cy="1695600"/>
            <a:chOff x="7456320" y="1736640"/>
            <a:chExt cx="1459080" cy="1695600"/>
          </a:xfrm>
        </p:grpSpPr>
        <p:pic>
          <p:nvPicPr>
            <p:cNvPr id="179" name="Picture 8" descr="Napa"/>
            <p:cNvPicPr/>
            <p:nvPr/>
          </p:nvPicPr>
          <p:blipFill>
            <a:blip r:embed="rId4"/>
            <a:stretch/>
          </p:blipFill>
          <p:spPr>
            <a:xfrm>
              <a:off x="7456320" y="1736640"/>
              <a:ext cx="1166760" cy="15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9" descr="Napa SGS"/>
            <p:cNvPicPr/>
            <p:nvPr/>
          </p:nvPicPr>
          <p:blipFill>
            <a:blip r:embed="rId5"/>
            <a:stretch/>
          </p:blipFill>
          <p:spPr>
            <a:xfrm>
              <a:off x="8142120" y="2651040"/>
              <a:ext cx="773280" cy="78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10" descr="anikf1r_pic1"/>
          <p:cNvPicPr/>
          <p:nvPr/>
        </p:nvPicPr>
        <p:blipFill>
          <a:blip r:embed="rId6"/>
          <a:stretch/>
        </p:blipFill>
        <p:spPr>
          <a:xfrm>
            <a:off x="5018040" y="4562640"/>
            <a:ext cx="1447920" cy="1083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1"/>
          <p:cNvSpPr/>
          <p:nvPr/>
        </p:nvSpPr>
        <p:spPr>
          <a:xfrm>
            <a:off x="6291720" y="3560760"/>
            <a:ext cx="92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Mast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7338600" y="3560760"/>
            <a:ext cx="130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Grou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th S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5020200" y="5710320"/>
            <a:ext cx="1492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Geostation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 Lin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7195320" y="5710320"/>
            <a:ext cx="1430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Operation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Ce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5" descr="WAAS_SystemMap_120407_small"/>
          <p:cNvPicPr/>
          <p:nvPr/>
        </p:nvPicPr>
        <p:blipFill>
          <a:blip r:embed="rId7"/>
          <a:stretch/>
        </p:blipFill>
        <p:spPr>
          <a:xfrm>
            <a:off x="291960" y="1662120"/>
            <a:ext cx="4373640" cy="43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WAAS Geo Satellites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3134D-A658-458E-9A86-96508C8F7BAD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343640" y="1366920"/>
            <a:ext cx="1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6885000" y="135900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GEO_After_POR2"/>
          <p:cNvPicPr/>
          <p:nvPr/>
        </p:nvPicPr>
        <p:blipFill>
          <a:blip r:embed="rId1"/>
          <a:stretch/>
        </p:blipFill>
        <p:spPr>
          <a:xfrm>
            <a:off x="4724280" y="3886200"/>
            <a:ext cx="4038840" cy="2654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urrent_GEO_Coverage3"/>
          <p:cNvPicPr/>
          <p:nvPr/>
        </p:nvPicPr>
        <p:blipFill>
          <a:blip r:embed="rId2"/>
          <a:stretch/>
        </p:blipFill>
        <p:spPr>
          <a:xfrm>
            <a:off x="380880" y="3886200"/>
            <a:ext cx="4038840" cy="265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urrent_GEO_Coverage_v3_120210"/>
          <p:cNvPicPr/>
          <p:nvPr/>
        </p:nvPicPr>
        <p:blipFill>
          <a:blip r:embed="rId3"/>
          <a:stretch/>
        </p:blipFill>
        <p:spPr>
          <a:xfrm>
            <a:off x="380880" y="1157400"/>
            <a:ext cx="4038840" cy="26524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4495680" y="1219320"/>
            <a:ext cx="4419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AAS GEOs (CRE and AMR) Currently Opera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CRW turned OFF in December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182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erformance deemed inadequate for WAAS servic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182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otal loss of T&amp;C April 2010 resulted in uncontrolled easterly 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CRW recovery efforts initiated 24 December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182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atellite units undergoing test &amp; eval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182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rojected possible return to WAAS service in Spring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Potential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alternative would utilize former WAAS GEO (POR) to mitigate loss of service in Alas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52680" y="342720"/>
            <a:ext cx="23004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  <a:ea typeface="Arial"/>
              </a:rPr>
              <a:t>Overview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58360" y="1218960"/>
            <a:ext cx="69087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GPS Interface Specifications &amp; Performance Standar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U.S. Augmentations to G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NDGP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CO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GDGPS &amp; TA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GB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BAS/WA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ncreased Accuracy with Augmen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" name="Picture 11" descr="GPS IIf lt"/>
          <p:cNvPicPr/>
          <p:nvPr/>
        </p:nvPicPr>
        <p:blipFill>
          <a:blip r:embed="rId1"/>
          <a:stretch/>
        </p:blipFill>
        <p:spPr>
          <a:xfrm>
            <a:off x="6394320" y="2846520"/>
            <a:ext cx="2584440" cy="195732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7"/>
          <p:cNvGrpSpPr/>
          <p:nvPr/>
        </p:nvGrpSpPr>
        <p:grpSpPr>
          <a:xfrm>
            <a:off x="7227720" y="1295280"/>
            <a:ext cx="1382400" cy="1618920"/>
            <a:chOff x="7227720" y="1295280"/>
            <a:chExt cx="1382400" cy="1618920"/>
          </a:xfrm>
        </p:grpSpPr>
        <p:pic>
          <p:nvPicPr>
            <p:cNvPr id="100" name="Picture 8" descr="Napa"/>
            <p:cNvPicPr/>
            <p:nvPr/>
          </p:nvPicPr>
          <p:blipFill>
            <a:blip r:embed="rId2"/>
            <a:stretch/>
          </p:blipFill>
          <p:spPr>
            <a:xfrm>
              <a:off x="7227720" y="1295280"/>
              <a:ext cx="1105560" cy="14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Napa SGS"/>
            <p:cNvPicPr/>
            <p:nvPr/>
          </p:nvPicPr>
          <p:blipFill>
            <a:blip r:embed="rId3"/>
            <a:stretch/>
          </p:blipFill>
          <p:spPr>
            <a:xfrm>
              <a:off x="7877520" y="2168280"/>
              <a:ext cx="732600" cy="74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0E478-94E3-47C8-A13B-4339D07316AA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IIF"/>
          <p:cNvPicPr/>
          <p:nvPr/>
        </p:nvPicPr>
        <p:blipFill>
          <a:blip r:embed="rId4"/>
          <a:stretch/>
        </p:blipFill>
        <p:spPr>
          <a:xfrm>
            <a:off x="914400" y="5105520"/>
            <a:ext cx="106848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GPS08a"/>
          <p:cNvPicPr/>
          <p:nvPr/>
        </p:nvPicPr>
        <p:blipFill>
          <a:blip r:embed="rId5"/>
          <a:stretch/>
        </p:blipFill>
        <p:spPr>
          <a:xfrm>
            <a:off x="6477120" y="4495680"/>
            <a:ext cx="1447560" cy="198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6"/>
          <a:srcRect l="0" t="0" r="2772" b="14292"/>
          <a:stretch/>
        </p:blipFill>
        <p:spPr>
          <a:xfrm>
            <a:off x="3276720" y="5105520"/>
            <a:ext cx="18367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WAAS Availability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E439E-2372-43A3-91DE-7E5A3BE944DF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7343640" y="1366920"/>
            <a:ext cx="1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NorthAmericaCoverage_LP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204920"/>
            <a:ext cx="7162920" cy="529596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6885000" y="135900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174600"/>
            <a:ext cx="7137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WAAS Phased Upgrades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81F7F-8DF2-421E-9E93-C1478DE23E5F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343640" y="1366920"/>
            <a:ext cx="1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885000" y="135900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hase I:  IOC (July 2003)  Comple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vided LNAV/VNAV/Limited LPV Capabil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hase II:  Full LPV (FLP) (2003 – 2008) Comple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roved LPV availability in CONUS and Alask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xpanded WAAS coverage to Mexico and Canad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hase III:  Full LPV-200 Performance (2009 – 2013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ftware enhancements, hardware upgrad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teady state operations and maintenanc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ransition to FAA performed 2nd level engineering suppor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egin GPS L5 transition activit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hase IV:  Dual Frequency (L1,L5) Operations (2013 – 2028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mplete GPS L5 transi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ll significantly improve availability and continuity during severe solar activ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vide additional protection against GPS interferenc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ll continue to support single frequency us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0200" y="174240"/>
            <a:ext cx="78548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Airports with WAAS LPV Approach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7343640" y="1150920"/>
            <a:ext cx="1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6885000" y="114300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Dot09051_Con"/>
          <p:cNvPicPr/>
          <p:nvPr/>
        </p:nvPicPr>
        <p:blipFill>
          <a:blip r:embed="rId1"/>
          <a:stretch/>
        </p:blipFill>
        <p:spPr>
          <a:xfrm>
            <a:off x="1503360" y="1366920"/>
            <a:ext cx="7315200" cy="4817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09" name="Text Box 4"/>
          <p:cNvSpPr/>
          <p:nvPr/>
        </p:nvSpPr>
        <p:spPr>
          <a:xfrm>
            <a:off x="911160" y="5118120"/>
            <a:ext cx="2590920" cy="8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8 November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,341 LPVs serving 1231 Airpo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449 LPVs to non-ILS Runway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2 LPVs to ILS run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46 LPVs to Non-ILS Airpo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Dot09051_Ala"/>
          <p:cNvPicPr/>
          <p:nvPr/>
        </p:nvPicPr>
        <p:blipFill>
          <a:blip r:embed="rId2"/>
          <a:srcRect l="11401" t="1242" r="11647" b="0"/>
          <a:stretch/>
        </p:blipFill>
        <p:spPr>
          <a:xfrm>
            <a:off x="227160" y="1366920"/>
            <a:ext cx="1753920" cy="13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WordArt 6"/>
          <p:cNvSpPr txBox="1"/>
          <p:nvPr/>
        </p:nvSpPr>
        <p:spPr>
          <a:xfrm rot="490200">
            <a:off x="5859360" y="1305000"/>
            <a:ext cx="20955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lus ~30 Canadian Airports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FC4B7-E292-4267-A4F8-058137B77413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84582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WAAS/SBAS Aviation Benefits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Runway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re direct en route flight p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w precision approach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duced and simplified equipment on board airc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tential elimination of some ground-based navigation aids (NDB, VOR, ILS) can provide a cost saving to air navigation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lide Number Placeholder 7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7F6F3-80DD-4967-9132-897F8CF294E5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Accuracy with Augmentation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14B94-4869-4C1E-A005-AB6E5400C1C8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7343640" y="1366920"/>
            <a:ext cx="1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6885000" y="135900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WAAS Accuracy1.jpg"/>
          <p:cNvPicPr/>
          <p:nvPr/>
        </p:nvPicPr>
        <p:blipFill>
          <a:blip r:embed="rId1"/>
          <a:stretch/>
        </p:blipFill>
        <p:spPr>
          <a:xfrm>
            <a:off x="152280" y="175248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ORS Accuracy 1.jpg"/>
          <p:cNvPicPr/>
          <p:nvPr/>
        </p:nvPicPr>
        <p:blipFill>
          <a:blip r:embed="rId2"/>
          <a:stretch/>
        </p:blipFill>
        <p:spPr>
          <a:xfrm>
            <a:off x="4622760" y="1523880"/>
            <a:ext cx="43689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174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d34"/>
                </a:solidFill>
                <a:latin typeface="Georgia"/>
              </a:rPr>
              <a:t>GPS/WAAS Aviation Performance</a:t>
            </a: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73518-0E3F-4ED8-883C-5F75757ED71C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7343640" y="1366920"/>
            <a:ext cx="1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6885000" y="135900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66680" y="4589640"/>
            <a:ext cx="66294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* Use of GPS vertical not authorized for aviation withou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augmentation (SBAS or GB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WAAS Performance evaluated based on a total of 1,761 million samples (or 20,389 user day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222200" y="1754280"/>
          <a:ext cx="6343920" cy="2411280"/>
        </p:xfrm>
        <a:graphic>
          <a:graphicData uri="http://schemas.openxmlformats.org/drawingml/2006/table">
            <a:tbl>
              <a:tblPr/>
              <a:tblGrid>
                <a:gridCol w="1874880"/>
                <a:gridCol w="1063800"/>
                <a:gridCol w="896760"/>
                <a:gridCol w="1254240"/>
                <a:gridCol w="1254240"/>
              </a:tblGrid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S LPV-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9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4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8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9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3.89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3804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Precision with Augmentation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0F9B3-E48E-4EB4-B234-714AA1E3FED5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7343640" y="1366920"/>
            <a:ext cx="1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6885000" y="135900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http___www.ngs.noaa.jpg"/>
          <p:cNvPicPr/>
          <p:nvPr/>
        </p:nvPicPr>
        <p:blipFill>
          <a:blip r:embed="rId1"/>
          <a:stretch/>
        </p:blipFill>
        <p:spPr>
          <a:xfrm>
            <a:off x="1523880" y="1219320"/>
            <a:ext cx="6248520" cy="3456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990720" y="48002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avCom/Starfire Receiv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02720" indent="-268200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20 cm horizontal accurac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02720" indent="-268200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30 cm vertical accurac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24000" indent="-324000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lobal Satellite Based Augmentation System (GSBAS) Technology developed by NASA’s Jet Propulsion Laborato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4000" indent="-324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7560" y="174600"/>
            <a:ext cx="729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Summary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PS Interface Documents are available on the Interne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5880" indent="-3358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ns in work for update to GPS Performance Standar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5880" indent="-3358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DGPS and CORS augmentation systems allow for a range of services free of charge to users throughout the service are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5880" indent="-3358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BAS continues progress toward providing advanced aviation capabilit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ltimate goal is to provide Category III precision approac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-3358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AS upgrades/system improvements occurring in pha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n schedule for Full LPV-200 Performance in 201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3A24C-8F8F-42BA-8A53-E6A77C21DB0F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33520" y="1219320"/>
            <a:ext cx="830556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D39C6-2106-485D-9926-F7F2DBB5E21A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7560" y="151920"/>
            <a:ext cx="7296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Contact Information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04920" y="1506600"/>
            <a:ext cx="853416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d2d8a"/>
                </a:solidFill>
                <a:latin typeface="Georgia"/>
              </a:rPr>
              <a:t>Jeffrey Auerb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GNSS Policy Adv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ffice of Space and Advance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U.S. Department of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OES/SAT, SA-23, Suite 4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Washington, D.C.  2052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+1.202.663.2388 (office)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auerbachjm@state.go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eorgia"/>
              </a:rPr>
              <a:t>http://www.state.gov/g/oes/sa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eorgia"/>
              </a:rPr>
              <a:t>http://gps.faa.gov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eorgia"/>
              </a:rPr>
              <a:t>http://www.pnt.gov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469800" y="4724280"/>
            <a:ext cx="843300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34640" y="200160"/>
            <a:ext cx="7969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Public Interface Specifications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rrent versions of the public GPS Signal-in-Space (SIS) Interface Specificati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-GPS-200 – L1 (P(Y) , C/A), L2 (P(Y), L2C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-GPS-705 – L5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-GPS-800 – L1C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se and other key IS/ICD documents available a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www.navcen.uscg.gov/index.php?pageName=gpsReferenceInfo/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www.gps.gov/technical/icwg/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0560" y="212760"/>
            <a:ext cx="8007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d34"/>
                </a:solidFill>
                <a:latin typeface="Georgia"/>
              </a:rPr>
              <a:t>Future Performance Standard Updates</a:t>
            </a: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nning a draft update of the SPS PS in 201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dition of L2C signal to current L1 C/A sign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me performance valu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pdate to be approved before Initial Operational Capability (IOC) declaration for L2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nning subsequent draft updates for L5 &amp; L1C sign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ior to each subsequent IOC declar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ing an updated set of performance metr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de different user applications and terrain environ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8850D-2D6B-4738-9D80-6371A00E2DAF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964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d34"/>
                </a:solidFill>
                <a:latin typeface="Georgia"/>
              </a:rPr>
              <a:t>Nationwide Differential GPS  (NDGPS)</a:t>
            </a: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762120" y="373392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rated/managed by U.S. Coast Guard as a Combined NDG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cludes Maritime + Department of Transportation + Army Corps of Engineers si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ystem Specif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rrections broadcast at 285 and 325 kHz using Minimum Shift Keying (MSK) modu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al-time differential GPS corrections provided in Radio Technical Commission for Maritime Services (RTCM) SC-104 forma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 data encryp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al-time differential corrections for mobile and static applica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re than 92% of Continental U.S. has single covera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re than 65% of Continental U.S. has dual covera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2860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6AFB0-E387-4650-92D9-921777C3029F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1373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Nationwide Differential GPS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pansion of maritime differential GPS (DGPS) network to cover terrestrial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ilt to international standard adopted in 50+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9" name="Picture 5" descr="C:\Users\HLWilson2\AppData\Local\Temp\1\wz51bd\Coverage-Sep09.jpg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09428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4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C05E6-4DF8-44B7-9DEC-3B476D01D8C1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riti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2888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.S. Coast Guard Aids to Navigation Positioning and maritime navig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affic conges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seline reference for railroa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ed by U.S. Federal Highway Administr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2888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oadside managem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2888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urvey, construction, quality, asset managem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ther U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-Aid Progr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w Enforce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title"/>
          </p:nvPr>
        </p:nvSpPr>
        <p:spPr>
          <a:xfrm>
            <a:off x="1142640" y="-360"/>
            <a:ext cx="733428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NDGPS Capabilities and Uses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pic>
        <p:nvPicPr>
          <p:cNvPr id="124" name="Picture 8" descr="March04_2_sm"/>
          <p:cNvPicPr/>
          <p:nvPr/>
        </p:nvPicPr>
        <p:blipFill>
          <a:blip r:embed="rId1"/>
          <a:stretch/>
        </p:blipFill>
        <p:spPr>
          <a:xfrm>
            <a:off x="5410080" y="1487520"/>
            <a:ext cx="3291120" cy="24750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6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7D040-76E5-47B4-94A8-F98FB7DD119D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800600" y="4800600"/>
            <a:ext cx="4191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vironmental and Geologic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.S. Army Corp of Engineers Surveying and Dredging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7560" y="151920"/>
            <a:ext cx="808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d34"/>
                </a:solidFill>
                <a:latin typeface="Georgia"/>
              </a:rPr>
              <a:t>National Continuously Operating </a:t>
            </a:r>
            <a:br>
              <a:rPr sz="2800"/>
            </a:br>
            <a:r>
              <a:rPr b="1" i="1" lang="en-US" sz="2800" spc="-1" strike="noStrike">
                <a:solidFill>
                  <a:srgbClr val="564d34"/>
                </a:solidFill>
                <a:latin typeface="Georgia"/>
              </a:rPr>
              <a:t>Reference Stations (CORS)</a:t>
            </a:r>
            <a:endParaRPr b="1" i="1" lang="en-US" sz="28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1430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ables highly accurate, 3-D position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entimeter level accuracy via post process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ed to National Spatial Reference Syste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,450+ sites operated by 200+ public, private, academic organiz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4266720"/>
            <a:ext cx="822960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AA’s Online Positioning User Service (OPUS) automatically processes coordinates submitted via the web from around the worl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US-RS (Rapid Static) declared operational in 20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AA considering support for real-time networ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0" name="Picture 20" descr=""/>
          <p:cNvPicPr/>
          <p:nvPr/>
        </p:nvPicPr>
        <p:blipFill>
          <a:blip r:embed="rId1"/>
          <a:srcRect l="6733" t="2859" r="7070" b="1906"/>
          <a:stretch/>
        </p:blipFill>
        <p:spPr>
          <a:xfrm>
            <a:off x="4572000" y="1447920"/>
            <a:ext cx="3827520" cy="243684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5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6E47F-4A4D-458F-A0DA-6E396271948C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mary application is to enable accurate positioning relative to the National Spatial Reference 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ther applications include earth and scientific resear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nitoring earth tectonic mo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a level chan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mospheric stud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erial mapp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85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title"/>
          </p:nvPr>
        </p:nvSpPr>
        <p:spPr>
          <a:xfrm>
            <a:off x="1142640" y="-360"/>
            <a:ext cx="733428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d34"/>
                </a:solidFill>
                <a:latin typeface="Georgia"/>
              </a:rPr>
              <a:t>CORS Applications</a:t>
            </a:r>
            <a:endParaRPr b="1" i="1" lang="en-US" sz="3200" spc="-1" strike="noStrike">
              <a:solidFill>
                <a:srgbClr val="564d34"/>
              </a:solidFill>
              <a:latin typeface="Georgia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8623440" y="652788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6B285-8E54-4CE3-A35E-369EAF798BA6}" type="slidenum">
              <a:rPr b="0" i="1" lang="en-US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ndard Integrated Desktop 6.0</dc:creator>
  <dc:description/>
  <dc:language>en-US</dc:language>
  <cp:lastModifiedBy>Jason Y. Kim</cp:lastModifiedBy>
  <dcterms:modified xsi:type="dcterms:W3CDTF">2011-01-13T20:05:19Z</dcterms:modified>
  <cp:revision>517</cp:revision>
  <dc:subject/>
  <dc:title>PowerPoint Presentation</dc:title>
</cp:coreProperties>
</file>